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9ED-DF54-443D-98ED-A4734E2C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37E-581C-4170-88B5-40FCE4B6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CE0-E360-4EAD-80F5-0C44FAD9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03E-98AC-4372-88E5-C2EBAF11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90A-6951-442E-9E10-5B8E16D5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8E1-AAB5-4CBF-9E8C-7E61551D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BF0-6B6A-44FF-9C61-1330ED6E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8C7-CFAA-4A46-B8E9-8E243138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333-C3FA-4D77-BC89-24CEE2C5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B95-CE8E-4108-9A37-D99DE837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E59-3A72-49FE-82EC-612503E9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A46-3AC6-41BF-AA2C-B949791D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EF50-F8A5-451E-AE61-BEE1FDD43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71800" y="228600"/>
            <a:ext cx="1828800" cy="1557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Mor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doni MT"/>
              </a:rPr>
              <a:t>A country on the northwest corner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www.worldatlas.com/webimage/countrys/africa/maafrica.gif"/>
          <p:cNvPicPr/>
          <p:nvPr/>
        </p:nvPicPr>
        <p:blipFill>
          <a:blip r:embed="rId1"/>
          <a:srcRect l="7500" t="18240" r="7500" b="6555"/>
          <a:stretch/>
        </p:blipFill>
        <p:spPr>
          <a:xfrm>
            <a:off x="4722840" y="0"/>
            <a:ext cx="266868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ap of Morocco"/>
          <p:cNvPicPr/>
          <p:nvPr/>
        </p:nvPicPr>
        <p:blipFill>
          <a:blip r:embed="rId2"/>
          <a:srcRect l="4996" t="2279" r="4996" b="11112"/>
          <a:stretch/>
        </p:blipFill>
        <p:spPr>
          <a:xfrm>
            <a:off x="533520" y="0"/>
            <a:ext cx="2438280" cy="2573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981080" y="2590920"/>
            <a:ext cx="48769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stitutional Mon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Rab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lam 99%,  Christian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ron ore, fish, 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TREET LIFE SCENE - Marrakech, Marrakech"/>
          <p:cNvPicPr/>
          <p:nvPr/>
        </p:nvPicPr>
        <p:blipFill>
          <a:blip r:embed="rId3"/>
          <a:stretch/>
        </p:blipFill>
        <p:spPr>
          <a:xfrm>
            <a:off x="-6480" y="395604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nake Charmers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6477120" y="57913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que in Casabla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http://t3.gstatic.com/images?q=tbn:ANd9GcQ3MZNIxzGhEMOBpQXwwvW5XZ34xrE5uAdnLYdA6jCbuyPTyIIA"/>
          <p:cNvPicPr/>
          <p:nvPr/>
        </p:nvPicPr>
        <p:blipFill>
          <a:blip r:embed="rId4"/>
          <a:stretch/>
        </p:blipFill>
        <p:spPr>
          <a:xfrm>
            <a:off x="5608800" y="3273480"/>
            <a:ext cx="3541680" cy="2487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5"/>
          <p:cNvSpPr/>
          <p:nvPr/>
        </p:nvSpPr>
        <p:spPr>
          <a:xfrm>
            <a:off x="3124080" y="60958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ag of Moroc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Flag of Morocco"/>
          <p:cNvPicPr/>
          <p:nvPr/>
        </p:nvPicPr>
        <p:blipFill>
          <a:blip r:embed="rId5"/>
          <a:stretch/>
        </p:blipFill>
        <p:spPr>
          <a:xfrm>
            <a:off x="2819520" y="4572000"/>
            <a:ext cx="2427120" cy="149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www.free-press-release.com/uploads/news/2011/03/29/1301432320_img3.jpg"/>
          <p:cNvPicPr/>
          <p:nvPr/>
        </p:nvPicPr>
        <p:blipFill>
          <a:blip r:embed="rId6"/>
          <a:stretch/>
        </p:blipFill>
        <p:spPr>
          <a:xfrm>
            <a:off x="7321680" y="-6480"/>
            <a:ext cx="1828800" cy="27561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7"/>
          <p:cNvSpPr/>
          <p:nvPr/>
        </p:nvSpPr>
        <p:spPr>
          <a:xfrm>
            <a:off x="7391520" y="2743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roccan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 rot="20290200">
            <a:off x="2975760" y="1835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Black"/>
              </a:rPr>
              <a:t>Sampl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C:\Documents and Settings\islpt137\My Documents\My Pictures\dw turkey.jpg"/>
          <p:cNvPicPr/>
          <p:nvPr/>
        </p:nvPicPr>
        <p:blipFill>
          <a:blip r:embed="rId1"/>
          <a:stretch/>
        </p:blipFill>
        <p:spPr>
          <a:xfrm>
            <a:off x="0" y="2133720"/>
            <a:ext cx="2133720" cy="164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Color Map of Turkey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habermonitor.com/img/devletler-hukukk-uzmani-prof-dr-hasan-koni-tu.jpg"/>
          <p:cNvPicPr/>
          <p:nvPr/>
        </p:nvPicPr>
        <p:blipFill>
          <a:blip r:embed="rId3"/>
          <a:stretch/>
        </p:blipFill>
        <p:spPr>
          <a:xfrm>
            <a:off x="0" y="3962520"/>
            <a:ext cx="2476440" cy="188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Map of Turkey"/>
          <p:cNvPicPr/>
          <p:nvPr/>
        </p:nvPicPr>
        <p:blipFill>
          <a:blip r:embed="rId4"/>
          <a:stretch/>
        </p:blipFill>
        <p:spPr>
          <a:xfrm>
            <a:off x="0" y="0"/>
            <a:ext cx="2343240" cy="149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In Affiliation with AllPosters.com"/>
          <p:cNvPicPr/>
          <p:nvPr/>
        </p:nvPicPr>
        <p:blipFill>
          <a:blip r:embed="rId5"/>
          <a:stretch/>
        </p:blipFill>
        <p:spPr>
          <a:xfrm>
            <a:off x="7315200" y="2362320"/>
            <a:ext cx="1828800" cy="183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In Affiliation with AllPosters.com"/>
          <p:cNvPicPr/>
          <p:nvPr/>
        </p:nvPicPr>
        <p:blipFill>
          <a:blip r:embed="rId6"/>
          <a:stretch/>
        </p:blipFill>
        <p:spPr>
          <a:xfrm>
            <a:off x="6858000" y="4191120"/>
            <a:ext cx="2286000" cy="1485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3124080" y="6858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80880" y="380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Map of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5867280" y="457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2362320" y="2362320"/>
            <a:ext cx="4267080" cy="256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: Republican parliamentary dem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Capital: Ank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Language: Turk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Religions: Is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Literacy Rate: 87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Natural Resources: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04920" y="5029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ag of Tur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28600" y="2971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Picture description #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6629400" y="28195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Turkey stat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7086600" y="51055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Turkey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0" y="5943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 Demi"/>
              </a:rPr>
              <a:t>DARREN WILLI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590920" y="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URKEY the state next to the Caspi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4T20:23:48Z</dcterms:modified>
  <cp:revision>16</cp:revision>
  <dc:subject/>
  <dc:title>Slide 1</dc:title>
</cp:coreProperties>
</file>